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Chapter" id="0">
      <p:sldLst>
        <p:sld r:id="rId12"/>
        <p:sld r:id="rId3"/>
        <p:sld r:id="rId21"/>
        <p:sld r:id="rId4"/>
        <p:sld r:id="rId5"/>
        <p:sld r:id="rId6"/>
        <p:sld r:id="rId8"/>
        <p:sld r:id="rId9"/>
        <p:sld r:id="rId11"/>
        <p:sld r:id="rId15"/>
      </p:sldLst>
    </p:custShow>
    <p:custShow name="ELI Sect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</p:sldLst>
    </p:custShow>
    <p:custShow name="ELI Sect 3" id="2">
      <p:sldLst>
        <p:sld r:id="rId3"/>
        <p:sld r:id="rId21"/>
      </p:sldLst>
    </p:custShow>
    <p:custShow name="ELI Sect 4" id="3">
      <p:sldLst>
        <p:sld r:id="rId8"/>
        <p:sld r:id="rId9"/>
        <p:sld r:id="rId11"/>
        <p:sld r:id="rId15"/>
      </p:sldLst>
    </p:custShow>
    <p:custShow name="Bellringers" id="4">
      <p:sldLst>
        <p:sld r:id="rId4"/>
        <p:sld r:id="rId8"/>
      </p:sldLst>
    </p:custShow>
    <p:custShow name="Chapter menu" id="5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3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ments of the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an Wa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Wa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nerg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s and the Coastlin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unami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Model of Refra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hitecap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ds blow the crest of a wave off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iteca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whitecaps reflect solar radiation, they allow less radiation to reach the ocea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have been studying how this characteristic may affect climat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s and the Coastlin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hallow water near the coastline, the bottom of a wave touches the ocean floo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ave touches the ocean bottom where the depth of the water is about half the wavelengt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s and the Coastlin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reak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ight of a wave changes as the wave approaches the coastlin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wave moves into shallow water, the bottom of the wave slows down. The top of the wave, however, continues to move at its original spe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, the top of the wave topples over and form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eaker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9850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s and the Coastlin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breakers for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8" descr="Untitled-4 copy"/>
          <p:cNvPicPr/>
          <p:nvPr/>
        </p:nvPicPr>
        <p:blipFill>
          <a:blip r:embed="rId1"/>
          <a:stretch/>
        </p:blipFill>
        <p:spPr>
          <a:xfrm>
            <a:off x="1685880" y="2057400"/>
            <a:ext cx="5629320" cy="38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s and the Coastlin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fra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frac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rt of the wave that is traveling in shallow water travels more slowly than the part of the wave that is still advancing in deeper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ve gradually bends toward the beach and strikes the shore head-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s and the Coastlin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dertows and Rip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carried onto a beach by breaking waves is pulled back into deeper water by gravity. This motion forms an irregular current called 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ertow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erally weak undertow is often confused with the more dangerou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ip 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p currents form when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s and the Coastlin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ngshore Curr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ngshore curr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 when waves approach the beach at an angl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shore currents flow parallel to the shore. Great quantities of sand are carried by longshore current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sand deposits form low ridges of sand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andb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sunami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sunam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giant seismic ocean wave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sunamis are caused by earthquakes on the ocean floor, but some can be caused by volcanic eruptions and underwater landslid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sunamis are commonly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idal wav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which is misleading because tsunamis are not caused by ti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sunam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sunami as a Destructive For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sunami has a tremendous amount of energ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the energy of this mass of water is released against the shore and causes a great deal of destruc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rival of a tsunami may be signaled by the sudden pulling back of the water along the sho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 Model of Refr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5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rmation of waves and the factors that affect wave siz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aves interact with the coastlin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use of destructive ocean wav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Wa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kind of wave is described as the periodic up-and-down movement of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h a wave has two basic pa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a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rest is the highest point of a wave. The trough is the lowest point between two cres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Wav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ve perio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ve h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veleng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2550960" y="4648320"/>
          <a:ext cx="383076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0960" y="4648320"/>
                    <a:ext cx="38307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er that wind blows from a given direction, the more energy is transferred from wind to water and the larger the wave becom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ir large surface area, larger waves receive more energy from the wind than smaller waves do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, larger waves grow larger, and smaller waves die ou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ter Movement in a Wav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the energy of a wave moves from water molecule to water molecule in the direction of the wave, the water itself moves very littl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wave moves across the surface of the ocean, only energy of the wave, not the water, moves in the direction of the wav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ter Movement in a Wave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water molecule within the wave move in a circular mo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uring a single wave period, each water particle moves in one complete circl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wave passes a given point, the circle traced by a water particle on the ocean surface has a diameter that is equal to the height of the wav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ter Movement in a Wave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waves receive their energy from wind pushing against the surface of the ocean, the energy received decreases as the depth of the water increas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, the diameter of a water molecule’s circular path decreases as water depth increases. Below a depth of about one-half the wavelength, there is almost no circular motion of water molecul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ve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ve Siz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e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factors determine the size of a wave. These factors are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ze of a wave will increase to only a certain height-to-length ratio before the wave collaps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4-01T15:51:55Z</dcterms:modified>
  <cp:revision>628</cp:revision>
  <dc:subject/>
  <dc:title>No Slide Title</dc:title>
</cp:coreProperties>
</file>